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60A-3AF2-4776-9283-1DD17CD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3BD-17BA-486F-BEF4-D4F87006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7D9-E9D5-4BCC-A25B-0490353F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031-7000-4DB2-B1D8-9746D196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6CA-2B9A-4308-BAB4-287AFE4F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67D-E08E-40AF-A69E-3E9E923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922-7F26-4087-AD4A-BE1ECBE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964-8354-4525-84C9-5F0F8E35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43F-B020-440B-8562-0E2DB4D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5AD-4383-4619-93BC-6975931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C37-CE27-400F-982A-A51C7DE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37D-DB7B-4206-AB7E-5719F9EF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B16-FB32-4FF3-BBA2-99C64B87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atem.net/word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bubbleshare.com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onference with 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5486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webcam software on your computer.  When you call someone, click start my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 with Flickr http://www.metaatem.net/word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a word and this cute little program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through Flickr to locate picture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hill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981080"/>
            <a:ext cx="110520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White Capital \&quot;O\&quot; Stenciled on a Brick Wall (Silver Spring, MD)"/>
          <p:cNvPicPr/>
          <p:nvPr/>
        </p:nvPicPr>
        <p:blipFill>
          <a:blip r:embed="rId3"/>
          <a:stretch/>
        </p:blipFill>
        <p:spPr>
          <a:xfrm>
            <a:off x="3733920" y="19810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"/>
          <p:cNvPicPr/>
          <p:nvPr/>
        </p:nvPicPr>
        <p:blipFill>
          <a:blip r:embed="rId4"/>
          <a:stretch/>
        </p:blipFill>
        <p:spPr>
          <a:xfrm>
            <a:off x="6019920" y="19810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1981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blesh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bubbleshare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4398" r="0" b="11999"/>
          <a:stretch/>
        </p:blipFill>
        <p:spPr>
          <a:xfrm>
            <a:off x="228600" y="1523880"/>
            <a:ext cx="8686800" cy="312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0"/>
            <a:ext cx="8686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create new album and type in a name for your album. Upload your pictures and select a theme and hit next.  Edit your page by adding graphics or words.  Preview album if you like it hit blog album.  This will give a code to be embedded on blog or wi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s.tcboe.org/?PageName='TeacherPage'&amp;Page='ClassActivities'&amp;StaffID='589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hill.wikispaces.com/Disasters+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lipboar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qlipmedia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3199" r="0" b="0"/>
          <a:stretch/>
        </p:blipFill>
        <p:spPr>
          <a:xfrm>
            <a:off x="304920" y="1523880"/>
            <a:ext cx="861048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106960"/>
            <a:ext cx="8686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is program to your computer. This is a easy way to voice thread, and This program makes great 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s.tcboe.org/?PageName='TeacherPage'&amp;Page='Assignments'&amp;StaffID='589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1:37:28Z</dcterms:created>
  <dc:creator>Shannon Hill</dc:creator>
  <dc:description/>
  <dc:language>en-US</dc:language>
  <cp:lastModifiedBy>Shannon Hill</cp:lastModifiedBy>
  <dcterms:modified xsi:type="dcterms:W3CDTF">2008-11-25T03:44:46Z</dcterms:modified>
  <cp:revision>7</cp:revision>
  <dc:subject/>
  <dc:title>Slide 1</dc:title>
</cp:coreProperties>
</file>